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86BF-2735-425C-8CD9-49225619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742-CD0F-476A-B8E6-139A3839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3FE-A767-49E4-8CAF-82394561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CAE4-B814-4C8A-83EA-D683E6D5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E373-B067-4508-BCA3-8A40C7DF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D13C-0FCA-4FB4-84C4-4DAF73FD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D88B-3428-4C3D-B063-60D03290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2B0A-E309-4A5F-9ACC-7FD41A8B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E19B-FE3C-4E7C-8B9E-B6A4E4EA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FC92-1989-4536-A616-EE9BF586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3435-1CE5-4AF1-BC8A-9B813D6C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DEE5-6223-43BE-9C5A-74175968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7AD5-DC59-4B23-AC4E-2A9849E5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3659-B2BB-41E0-8259-E4980ABC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D3E4-32C8-4AB8-B90B-64DE5C62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9EFA-E19B-417A-9DFE-6D2E2BAE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F4B6-73E4-4090-ACAF-B3503CD4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3F5-B405-4B49-A0D1-BDD5C428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AE1-F9F8-41C4-AA1B-E7F7BAB6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59BB-A57A-4AB5-A498-9F7CFDB6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990-64E9-4835-9451-E64898B7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A3C-74BB-4BDB-82A3-51498DE9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93A-C7AE-43A9-84DA-D6C3F874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26F-50C4-41FB-811C-2B052F71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2AC7-FA54-4AA1-A55C-F2D9415B98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507D-0267-407B-B87B-5DBC9EE2EA9A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ебный модул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Дорожная безопа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Урок 3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Мы - пассажиры.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C:\Documents and Settings\Admin\Рабочий стол\img15.jpg"/>
          <p:cNvPicPr/>
          <p:nvPr/>
        </p:nvPicPr>
        <p:blipFill>
          <a:blip r:embed="rId1"/>
          <a:stretch/>
        </p:blipFill>
        <p:spPr>
          <a:xfrm>
            <a:off x="1214280" y="1539720"/>
            <a:ext cx="6786720" cy="48769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4"/>
          <p:cNvSpPr/>
          <p:nvPr/>
        </p:nvSpPr>
        <p:spPr>
          <a:xfrm>
            <a:off x="1071720" y="402840"/>
            <a:ext cx="7000560" cy="576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Кто из пассажиров нарушает ПДД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Admin\Рабочий стол\учебный модуль\0028-028-Dvizhenie-avtomobilja.jpg"/>
          <p:cNvPicPr/>
          <p:nvPr/>
        </p:nvPicPr>
        <p:blipFill>
          <a:blip r:embed="rId1"/>
          <a:stretch/>
        </p:blipFill>
        <p:spPr>
          <a:xfrm>
            <a:off x="500040" y="2214720"/>
            <a:ext cx="3898800" cy="31748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4"/>
          <p:cNvSpPr/>
          <p:nvPr/>
        </p:nvSpPr>
        <p:spPr>
          <a:xfrm>
            <a:off x="928800" y="38880"/>
            <a:ext cx="7286400" cy="1522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Какие действия персонажей говорят о нарушении правил поведения пассажиров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4" name="Picture 3" descr="C:\Documents and Settings\Admin\Рабочий стол\0028-028-Dvizhenie-avtomobilja.jpg"/>
          <p:cNvPicPr/>
          <p:nvPr/>
        </p:nvPicPr>
        <p:blipFill>
          <a:blip r:embed="rId2"/>
          <a:stretch/>
        </p:blipFill>
        <p:spPr>
          <a:xfrm>
            <a:off x="4714920" y="2214720"/>
            <a:ext cx="3746520" cy="3416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Автобус"/>
          <p:cNvPicPr/>
          <p:nvPr/>
        </p:nvPicPr>
        <p:blipFill>
          <a:blip r:embed="rId1"/>
          <a:stretch/>
        </p:blipFill>
        <p:spPr>
          <a:xfrm>
            <a:off x="0" y="1773360"/>
            <a:ext cx="3240000" cy="2054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Метро"/>
          <p:cNvPicPr/>
          <p:nvPr/>
        </p:nvPicPr>
        <p:blipFill>
          <a:blip r:embed="rId2"/>
          <a:stretch/>
        </p:blipFill>
        <p:spPr>
          <a:xfrm>
            <a:off x="5148360" y="1916280"/>
            <a:ext cx="3995640" cy="1755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Трамвай"/>
          <p:cNvPicPr/>
          <p:nvPr/>
        </p:nvPicPr>
        <p:blipFill>
          <a:blip r:embed="rId3"/>
          <a:stretch/>
        </p:blipFill>
        <p:spPr>
          <a:xfrm>
            <a:off x="5580000" y="4508640"/>
            <a:ext cx="3564000" cy="206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Троллейбус"/>
          <p:cNvPicPr/>
          <p:nvPr/>
        </p:nvPicPr>
        <p:blipFill>
          <a:blip r:embed="rId4"/>
          <a:stretch/>
        </p:blipFill>
        <p:spPr>
          <a:xfrm>
            <a:off x="179280" y="43657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МаршрутноеТакси"/>
          <p:cNvPicPr/>
          <p:nvPr/>
        </p:nvPicPr>
        <p:blipFill>
          <a:blip r:embed="rId5"/>
          <a:stretch/>
        </p:blipFill>
        <p:spPr>
          <a:xfrm>
            <a:off x="2987640" y="3500280"/>
            <a:ext cx="2657520" cy="1737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2"/>
          <p:cNvSpPr/>
          <p:nvPr/>
        </p:nvSpPr>
        <p:spPr>
          <a:xfrm>
            <a:off x="250920" y="623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Троллейбус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7956720" y="350028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етро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7740720" y="63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Трамва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250920" y="3716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Автобус рейсовы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3132000" y="5300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аршрутное такс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AutoShape 18"/>
          <p:cNvSpPr/>
          <p:nvPr/>
        </p:nvSpPr>
        <p:spPr>
          <a:xfrm>
            <a:off x="1071720" y="125640"/>
            <a:ext cx="714348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Общественный транспорт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- транспортное средство общего пользования, предназначенное для перевозки по дорогам людей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ОстановкаАвтобуса"/>
          <p:cNvPicPr/>
          <p:nvPr/>
        </p:nvPicPr>
        <p:blipFill>
          <a:blip r:embed="rId1"/>
          <a:stretch/>
        </p:blipFill>
        <p:spPr>
          <a:xfrm>
            <a:off x="74520" y="2000160"/>
            <a:ext cx="4211640" cy="3054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ОстановкаТрамвая"/>
          <p:cNvPicPr/>
          <p:nvPr/>
        </p:nvPicPr>
        <p:blipFill>
          <a:blip r:embed="rId2"/>
          <a:stretch/>
        </p:blipFill>
        <p:spPr>
          <a:xfrm>
            <a:off x="4643280" y="1976400"/>
            <a:ext cx="4395960" cy="3024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7"/>
          <p:cNvSpPr/>
          <p:nvPr/>
        </p:nvSpPr>
        <p:spPr>
          <a:xfrm>
            <a:off x="1143000" y="147240"/>
            <a:ext cx="714060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Ждать автобус, троллейбус или трамвай нужно только на остановках – местах, обозначенных специальными знаками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1403280" y="5371560"/>
            <a:ext cx="753444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На остановке никогда нельзя стоять у кромки тротуара. Тебя нечаянно могут толкнуть, и ты окажешься под колесам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3286080" y="3500280"/>
            <a:ext cx="129708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7846920" y="314316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Picture 12" descr="Постовой_Маленький"/>
          <p:cNvPicPr/>
          <p:nvPr/>
        </p:nvPicPr>
        <p:blipFill>
          <a:blip r:embed="rId3"/>
          <a:stretch/>
        </p:blipFill>
        <p:spPr>
          <a:xfrm>
            <a:off x="395280" y="4941720"/>
            <a:ext cx="91764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ПосадкаВАвтобус"/>
          <p:cNvPicPr/>
          <p:nvPr/>
        </p:nvPicPr>
        <p:blipFill>
          <a:blip r:embed="rId1"/>
          <a:stretch/>
        </p:blipFill>
        <p:spPr>
          <a:xfrm>
            <a:off x="1835280" y="1763640"/>
            <a:ext cx="5113080" cy="39513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1000080" y="219960"/>
            <a:ext cx="7215120" cy="172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одходить для посадки к двери можно только после полной остановки транспорта. Не садись в транспорт в последний момент, тебя может прищемить дверями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332000" y="5889960"/>
            <a:ext cx="7504200" cy="71172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Посадка в транспорт требует внимания и осторожност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5" name="Picture 7" descr="Постовой_Маленький"/>
          <p:cNvPicPr/>
          <p:nvPr/>
        </p:nvPicPr>
        <p:blipFill>
          <a:blip r:embed="rId2"/>
          <a:stretch/>
        </p:blipFill>
        <p:spPr>
          <a:xfrm>
            <a:off x="250920" y="4724280"/>
            <a:ext cx="917640" cy="1700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Постовой_Маленький"/>
          <p:cNvPicPr/>
          <p:nvPr/>
        </p:nvPicPr>
        <p:blipFill>
          <a:blip r:embed="rId3"/>
          <a:stretch/>
        </p:blipFill>
        <p:spPr>
          <a:xfrm>
            <a:off x="250920" y="4724280"/>
            <a:ext cx="917640" cy="1700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Постовой_Маленький"/>
          <p:cNvPicPr/>
          <p:nvPr/>
        </p:nvPicPr>
        <p:blipFill>
          <a:blip r:embed="rId4"/>
          <a:stretch/>
        </p:blipFill>
        <p:spPr>
          <a:xfrm>
            <a:off x="17640" y="4724280"/>
            <a:ext cx="115092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ДержисьЗаПоручни"/>
          <p:cNvPicPr/>
          <p:nvPr/>
        </p:nvPicPr>
        <p:blipFill>
          <a:blip r:embed="rId1"/>
          <a:stretch/>
        </p:blipFill>
        <p:spPr>
          <a:xfrm>
            <a:off x="1547640" y="1773360"/>
            <a:ext cx="5832720" cy="32241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8"/>
          <p:cNvSpPr/>
          <p:nvPr/>
        </p:nvSpPr>
        <p:spPr>
          <a:xfrm>
            <a:off x="928800" y="75600"/>
            <a:ext cx="735804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 салон следует заходить спокойно, никого не расталкивая. Возле дверей лучше не стоять. Там тебя будут постоянно задевать те, кто выходит, а открывающаяся дверь может и прищемить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258920" y="5027040"/>
            <a:ext cx="7593120" cy="1623240"/>
          </a:xfrm>
          <a:prstGeom prst="roundRect">
            <a:avLst>
              <a:gd name="adj" fmla="val 16634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Во время движения нужно сидеть, а если нет мест, то необходимо обязательно держаться за поручни. Иначе можно упасть и сильно удариться! При поездке в маршрутном такси вообще стоять ЗАПРЕЩЕНО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1" name="Picture 12" descr="Постовой_Маленький"/>
          <p:cNvPicPr/>
          <p:nvPr/>
        </p:nvPicPr>
        <p:blipFill>
          <a:blip r:embed="rId2"/>
          <a:stretch/>
        </p:blipFill>
        <p:spPr>
          <a:xfrm>
            <a:off x="0" y="4724280"/>
            <a:ext cx="1150920" cy="21337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3"/>
          <p:cNvSpPr/>
          <p:nvPr/>
        </p:nvSpPr>
        <p:spPr>
          <a:xfrm>
            <a:off x="3708360" y="1628640"/>
            <a:ext cx="1441440" cy="1008360"/>
          </a:xfrm>
          <a:prstGeom prst="wedgeEllipseCallout">
            <a:avLst>
              <a:gd name="adj1" fmla="val -43722"/>
              <a:gd name="adj2" fmla="val 105592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Ой! Ой!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омогите!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928800" y="32400"/>
            <a:ext cx="7500960" cy="158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Нельзя отвлекать водителя во время движения, мешать другим пассажирам. Ни в коем случае нельзя: покидать автобус, выпрыгивая на ходу, стоять на ступеньках, мешая закрытию дверей,  высовываться в окно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Picture 5" descr="ПассажирыАвтобуса"/>
          <p:cNvPicPr/>
          <p:nvPr/>
        </p:nvPicPr>
        <p:blipFill>
          <a:blip r:embed="rId1"/>
          <a:stretch/>
        </p:blipFill>
        <p:spPr>
          <a:xfrm>
            <a:off x="1908000" y="1928880"/>
            <a:ext cx="5040360" cy="34002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6"/>
          <p:cNvSpPr/>
          <p:nvPr/>
        </p:nvSpPr>
        <p:spPr>
          <a:xfrm>
            <a:off x="1417680" y="5682240"/>
            <a:ext cx="7504200" cy="71172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Когда пассажир соблюдает правила – он в безопасност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Picture 7" descr="Постовой_Маленький"/>
          <p:cNvPicPr/>
          <p:nvPr/>
        </p:nvPicPr>
        <p:blipFill>
          <a:blip r:embed="rId2"/>
          <a:stretch/>
        </p:blipFill>
        <p:spPr>
          <a:xfrm>
            <a:off x="0" y="4437000"/>
            <a:ext cx="130644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Постовой_Маленький"/>
          <p:cNvPicPr/>
          <p:nvPr/>
        </p:nvPicPr>
        <p:blipFill>
          <a:blip r:embed="rId1"/>
          <a:stretch/>
        </p:blipFill>
        <p:spPr>
          <a:xfrm>
            <a:off x="0" y="4437000"/>
            <a:ext cx="1306440" cy="242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Documents and Settings\Admin\Рабочий стол\учебный модуль\img5.jpg"/>
          <p:cNvPicPr/>
          <p:nvPr/>
        </p:nvPicPr>
        <p:blipFill>
          <a:blip r:embed="rId2"/>
          <a:stretch/>
        </p:blipFill>
        <p:spPr>
          <a:xfrm>
            <a:off x="642960" y="1785960"/>
            <a:ext cx="4000320" cy="3000240"/>
          </a:xfrm>
          <a:prstGeom prst="rect">
            <a:avLst/>
          </a:prstGeom>
          <a:ln w="15840">
            <a:solidFill>
              <a:srgbClr val="cc9900"/>
            </a:solidFill>
            <a:miter/>
          </a:ln>
        </p:spPr>
      </p:pic>
      <p:sp>
        <p:nvSpPr>
          <p:cNvPr id="129" name="AutoShape 4"/>
          <p:cNvSpPr/>
          <p:nvPr/>
        </p:nvSpPr>
        <p:spPr>
          <a:xfrm>
            <a:off x="857160" y="247680"/>
            <a:ext cx="7358040" cy="1117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еревозка детей до 12-летнего возраста в транспортных средствах должна осуществляться с  использованием специальных детских удерживающих устройств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1417680" y="5530320"/>
            <a:ext cx="750420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До 12-летнего возраста в легковом автомобиле ваше место на заднем сидени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Picture 3" descr="C:\Documents and Settings\Admin\Рабочий стол\img5.jpg"/>
          <p:cNvPicPr/>
          <p:nvPr/>
        </p:nvPicPr>
        <p:blipFill>
          <a:blip r:embed="rId3"/>
          <a:stretch/>
        </p:blipFill>
        <p:spPr>
          <a:xfrm>
            <a:off x="4857840" y="1785960"/>
            <a:ext cx="4000320" cy="3000240"/>
          </a:xfrm>
          <a:prstGeom prst="rect">
            <a:avLst/>
          </a:prstGeom>
          <a:ln w="15840">
            <a:solidFill>
              <a:srgbClr val="cc9900"/>
            </a:solidFill>
            <a:miter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6"/>
          <p:cNvSpPr/>
          <p:nvPr/>
        </p:nvSpPr>
        <p:spPr>
          <a:xfrm>
            <a:off x="1417680" y="5530320"/>
            <a:ext cx="750420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рещается перевозить детей до 12-летнего возраста на заднем сиденье мотоцикл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Picture 2" descr="C:\Documents and Settings\Admin\Рабочий стол\img4.jpg"/>
          <p:cNvPicPr/>
          <p:nvPr/>
        </p:nvPicPr>
        <p:blipFill>
          <a:blip r:embed="rId1"/>
          <a:stretch/>
        </p:blipFill>
        <p:spPr>
          <a:xfrm>
            <a:off x="714240" y="214200"/>
            <a:ext cx="7786800" cy="4786560"/>
          </a:xfrm>
          <a:prstGeom prst="rect">
            <a:avLst/>
          </a:prstGeom>
          <a:ln w="15840">
            <a:solidFill>
              <a:srgbClr val="cc9900"/>
            </a:solidFill>
            <a:miter/>
          </a:ln>
        </p:spPr>
      </p:pic>
      <p:pic>
        <p:nvPicPr>
          <p:cNvPr id="134" name="Picture 7" descr="Постовой_Маленький"/>
          <p:cNvPicPr/>
          <p:nvPr/>
        </p:nvPicPr>
        <p:blipFill>
          <a:blip r:embed="rId2"/>
          <a:stretch/>
        </p:blipFill>
        <p:spPr>
          <a:xfrm>
            <a:off x="0" y="4437000"/>
            <a:ext cx="130644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Постовой_Маленький"/>
          <p:cNvPicPr/>
          <p:nvPr/>
        </p:nvPicPr>
        <p:blipFill>
          <a:blip r:embed="rId1"/>
          <a:stretch/>
        </p:blipFill>
        <p:spPr>
          <a:xfrm>
            <a:off x="0" y="4437000"/>
            <a:ext cx="1306440" cy="24210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6"/>
          <p:cNvSpPr/>
          <p:nvPr/>
        </p:nvSpPr>
        <p:spPr>
          <a:xfrm>
            <a:off x="1417680" y="5682240"/>
            <a:ext cx="7504200" cy="71172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Не обходите стоящий автобус ни спереди, ни с сзад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857160" y="247680"/>
            <a:ext cx="7358040" cy="1117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Стоящий автобус закрывает собою участок дороги, по которому в тот момент, когда вы решили ее перейти, может проезжать автомобиль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8" name="Picture 2" descr="C:\Documents and Settings\Admin\Рабочий стол\учебный модуль\img27.jpg"/>
          <p:cNvPicPr/>
          <p:nvPr/>
        </p:nvPicPr>
        <p:blipFill>
          <a:blip r:embed="rId2"/>
          <a:stretch/>
        </p:blipFill>
        <p:spPr>
          <a:xfrm>
            <a:off x="571680" y="1928880"/>
            <a:ext cx="392904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Documents and Settings\Admin\Рабочий стол\img27.jpg"/>
          <p:cNvPicPr/>
          <p:nvPr/>
        </p:nvPicPr>
        <p:blipFill>
          <a:blip r:embed="rId3"/>
          <a:stretch/>
        </p:blipFill>
        <p:spPr>
          <a:xfrm>
            <a:off x="4857840" y="1928880"/>
            <a:ext cx="398304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09:32:18Z</dcterms:created>
  <dc:creator>1</dc:creator>
  <dc:description/>
  <dc:language>en-US</dc:language>
  <cp:lastModifiedBy>Admin</cp:lastModifiedBy>
  <dcterms:modified xsi:type="dcterms:W3CDTF">2015-03-29T14:57:24Z</dcterms:modified>
  <cp:revision>41</cp:revision>
  <dc:subject/>
  <dc:title>ОСНОВНЫЕ ПОНЯТИЯ И ТЕРМИНЫ, используемые в правилах дорожного движения</dc:title>
</cp:coreProperties>
</file>